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EBB-5194-4B0E-954B-F326382F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4F1-9656-4516-A4FF-159258D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FA6-B45B-4DBC-9CB3-ECBCEB08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CC3-0E57-46A4-9BD1-29D579B8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01C-7A3E-45F6-A35C-F7B23E1E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7BD-AF0F-4501-A7BB-4E9D998A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D04-C01B-4F95-8294-B257FA2C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6DC-A466-4D23-BBF6-A8E57FD0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05C-C4EF-4545-A9B5-2C452C92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CA3-B593-4688-98C2-84BC686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0CB-B56B-42F6-96A5-BE52575E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89C-EB2C-4CF8-9B3B-DB47D70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49C-1D71-4EFA-A98D-AE4B485D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Me llamo _______ Clase 6NM (601)</a:t>
            </a:r>
            <a:br>
              <a:rPr sz="3800"/>
            </a:b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La fecha es el 14 de abril del 20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Propósito # 59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te da el med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Actividad In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rcicio 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.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s Vocabulario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¿Qué te duele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¿Qué t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¡Que te mejores pro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s 022"/>
          <p:cNvPicPr/>
          <p:nvPr/>
        </p:nvPicPr>
        <p:blipFill>
          <a:blip r:embed="rId1"/>
          <a:stretch/>
        </p:blipFill>
        <p:spPr>
          <a:xfrm>
            <a:off x="609480" y="2057400"/>
            <a:ext cx="198144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ictures 021"/>
          <p:cNvPicPr/>
          <p:nvPr/>
        </p:nvPicPr>
        <p:blipFill>
          <a:blip r:embed="rId2"/>
          <a:stretch/>
        </p:blipFill>
        <p:spPr>
          <a:xfrm>
            <a:off x="3429000" y="2133720"/>
            <a:ext cx="1990800" cy="146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6477120" y="2057400"/>
            <a:ext cx="2057400" cy="2219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31760" y="36576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83840" y="4129200"/>
            <a:ext cx="21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03280" y="3657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32240" y="4114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de 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3840" y="426708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e duele el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413320" y="4724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Arial"/>
              </a:rPr>
              <a:t>Tengo dolor de 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031000" y="54864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el better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jercici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. 55 (1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 p. 26 y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rea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1:26:24Z</dcterms:created>
  <dc:creator>Helen Zumaeta</dc:creator>
  <dc:description/>
  <dc:language>en-US</dc:language>
  <cp:lastModifiedBy>Helen Zumaeta</cp:lastModifiedBy>
  <dcterms:modified xsi:type="dcterms:W3CDTF">2013-05-13T16:38:04Z</dcterms:modified>
  <cp:revision>5</cp:revision>
  <dc:subject/>
  <dc:title>Me llamo _______ Clase 7 IM La fecha es el 6 de mayo del 2011</dc:title>
</cp:coreProperties>
</file>